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57E3-23D8-4B25-9A4C-6140E7F8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6089-2D30-4AA6-9BC3-8E288B75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F259-C2EE-49F4-9F18-9604B7E9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0FDB-B0EB-4982-8CDF-556C73CA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60B4-2D7B-4D61-9A56-8AD5E874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6271-DF32-4381-A62B-86CA1891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D9E4-12E1-42DA-907A-B24C8461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68BA-B09D-4440-9E82-192052AB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C72A-00DA-4EA2-AD89-2EDD8E48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61CC-62A7-4B77-8D5A-9A42DAC9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7422-90D0-4923-8554-26E91CA1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8386-D3FE-4D18-A2D1-DB644062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F040-1472-4111-A409-0F4A4770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F008-C8E0-4002-AA55-D3246DD4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C0CB-02B3-4822-8E04-DB2C4CE8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77D2-5014-4287-A3A1-9479E7C6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450F-84CF-4E70-822D-0699BD72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8E0B-0A96-49E7-97EC-2BFCB3D7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2867-FA77-4EB5-8883-A3B343E1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D118-4249-42C6-AA6A-53F2BFAC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0C5F-6D4F-47AC-A9F7-9D5FF6CC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622E-D6B8-4C4E-AC4C-97050DBB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D23-3BBA-42B6-A36B-4EE47B94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A718-8B03-47E5-96FD-70461605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9266-D568-479F-8736-862F9832CD6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7266-BDB0-4CB9-9E13-01E00CCDB32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813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四章 寄生虫感染的免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ity in Parasitic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慢性感染和进行性感染都反映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可有效地逃避宿主的免疫效应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逃避机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组织学隔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变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伪装（拟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表面脱落和更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抑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四、免疫逃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85988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研究抗寄生虫的特异性适应性免疫，对理解寄生虫的致病机制、免疫诊断、流行和防治等都具有十分重要的意义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一、寄生虫抗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于寄生虫的结构和生活史复杂使寄生虫抗原具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复杂性：表面抗原、代谢抗原和虫体抗原，以表面抗原和代谢抗原的免疫源性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多源性：具有属、种、株和期的特异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二、抗寄生虫的适应性免疫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570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热带利什曼原虫引起的东方疖可产生消除性免疫，这种免疫现象在寄生虫感染中罕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非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带虫免疫：某些寄生虫感染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疟原虫、刚地弓形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可诱导一种特异性免疫应答，使宿主体内的寄生虫数量降低，增殖减慢、维持低水平虫荷，导致临床痊愈，并产生抗特异性攻击的能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伴随免疫：有些蠕虫感染（日本血吸虫）可诱导宿主产生抗同种寄生虫幼虫再感染的能力，而已寄生的成虫不受保护性免疫的影响，继续存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9080" y="4110120"/>
            <a:ext cx="2303280" cy="2254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348000" y="4070520"/>
            <a:ext cx="1541520" cy="2311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257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6400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疟原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0120" y="64008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（刚地弓形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64008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伴随免疫（日本血吸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三、免疫效应机制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效应机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受体封闭和封闭细胞的黏合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性细胞介导的细胞毒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DC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经典的补体途径介导依赖抗体杀伤寄生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02160" cy="2203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70200" y="439416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介导免疫：抗寄生虫的适应性免疫中细胞免疫起重要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淋巴因子活化效应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6021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毒淋巴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自然杀伤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625840" y="1341360"/>
            <a:ext cx="3601800" cy="220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9:27:14Z</dcterms:modified>
  <cp:revision>122</cp:revision>
  <dc:subject/>
  <dc:title>医学寄生虫学总论</dc:title>
</cp:coreProperties>
</file>